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7F14-5640-4609-8702-6AA0A6711E3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wrócić uwagę uczniów, że dwa z podanych wyrażeń pasują do jednego prostoką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66D-2234-4EB9-8171-5077334A1603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 przystąpieniem do rozwiązania zadań warto porozmawiać z uczniami na temat ich wieku i wieku ich rodzeństwa oraz rodzic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0569-43C0-4576-8999-F267CCCE7F1F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nim podamy uczniom zadanie. Zapytajmy ich: ile lat mieli trzy lata temu, a ile będą mieli za trzy lata? Pozwoli to gimnazjalistom lepiej zrozumieć treść zad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0CA1-3781-43C1-8199-6866BECD5871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asugerować uczniom, że odrzucimy tylko jedno z podanych wyraże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1699-FFFC-4544-9559-52D3B88CB3F1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łaściwe rozwiązanie x=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1549-958A-44C1-BC28-12F22D6D6177}" type="slidenum">
              <a:rPr b="0" lang="pl-PL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20CB-77D2-4A36-ADA4-1658A31E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ACC-ACFB-489E-A6F7-3672CFC6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D16-77A4-42F5-9B76-E7392F90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BC9-A1BB-4A33-BCCA-11E9EA28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522D-23BD-4B77-ABD8-3A377AC8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DF11-9557-4F92-8B5F-EBA1313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737D-6AF0-4250-8E20-603A1AE0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41E8-34F4-4C48-B705-E60169B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1FF5-83F3-430E-89C3-A1166C93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9A8C-955A-471A-8FC9-D4E81006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0387-C685-4684-A8F7-DAB16589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387-9A77-4258-B0D1-D1F042A8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2C62-EFF7-4B02-8C17-43632409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8477-9F5A-4807-9047-AA75BC8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4F5D-A72B-4FFD-995F-5167CE0D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4470-7E77-44DA-A232-6C4E1143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6D8A-3389-4081-9A60-7A282774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C094-1FDF-42E9-B673-58F65FE9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590CA-EF84-4B39-8C1A-739DF7DF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8FDA-AF07-4752-9C63-723D38FD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4405-C6FB-4E19-8782-6CA0D395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43436-F0C6-4933-8337-E2CFF9E6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5F0-E7D8-4AEA-B026-1ACC860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3B9E-BC24-4881-80D6-CBF336F9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3406-964A-4A6E-8C7F-2F0D8D8B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C152-D40F-4A4D-87FD-DBD52D5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4E22-D432-4C8F-98B0-17B9C76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0D7D-B03C-40B9-8A51-199DAEC9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56B1-8763-4637-82B9-314709EF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963CA-E42E-4518-A00E-E48F0DC8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9030-43F4-43B0-888D-74F847B1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B2B1-BB81-4C9D-9104-9EF52C35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0409-BD02-47E6-B340-DA13CE05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2A1-D474-4438-9C27-CCB54F64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BB35D-5812-4BF4-9852-77BC6EB8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306B-C209-442B-970B-82B3DB36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539D7-2AD9-4BB1-A426-384264E8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9EC6-FD85-48C5-ADAF-CBBE2F1B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F051-11EB-411D-836B-DDE6B1CE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3B4B-58B6-4F93-8FB9-503BC7EF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96F75-B39D-4726-B957-00EDEC66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3F3C3-4317-406F-A4E5-55A43EBF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56C6-C7C9-46B1-B00E-EA97C26F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7959-A2C9-4D5F-A8ED-55A125A9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B89-067C-4D59-9CDB-AEF01FCE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B42F-49E5-4E4D-9605-F24A976A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EB929-684B-4B9E-96F2-4C3FE8E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CC23-90B4-42CC-AF3E-0D8B3CB6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AC66B-4CCF-4FD1-9441-26158203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0D48-7FC3-4EC6-B3E7-ABFBAEBA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2274-6A6A-409E-96B3-EA47B26D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1E62-C165-4D6B-8B3F-30291094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1566F-5B38-4544-BBEF-40B42F5F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8FF5-3665-4E19-BC3F-D45F6BA8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DAAAE-3CF7-4D29-9780-5DBE4F5F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052-EAA3-4E23-8E70-87728A50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B788-D7DD-4B5A-A810-BDF76643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6EFC0-607E-4E73-8B21-09C9BB49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CD2A7-4B83-42C4-B4C2-4591446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EBAED-99E2-4CAD-B83F-CEF75940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0BED-66AC-4CEE-ABBB-1A58337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3DDB-452F-40EB-A60A-A49C408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AF1BB-5758-463A-801E-8E8A7D04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8AA12-471C-468B-8A8E-FF4BF4D7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AD625-856F-4519-B470-846D6A0F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B030B-6FAE-4CBD-9703-8FE55988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6E3-1481-4F34-8A16-78FFAA1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F41F-1F79-418B-9F5A-6D04DBC4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94359-229D-4769-B11F-67A1A352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D6B41-B35B-4FD1-9091-FBDAC21F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859E6-E57C-4FF5-A6E4-D14FC72E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C48F3-2658-4D30-916F-CE31B4CC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0777-0F39-45CF-A94A-9273169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A027-8215-47E9-A999-EA09AD60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F6F56-8801-49B6-A99F-3CD0D0DF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1954D-5E9F-40F0-BA7C-C68EC71B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490D-963D-4A96-8DE3-242C23EF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492-E65A-4F3C-AC27-C7EBA87B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06868-B6F1-45F9-9F53-8868C022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6E80-3D74-4705-A9AC-D20CC2E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3081E-FAC8-48AB-B657-40AE4DE7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D024A-44C3-4A12-96C4-B4A4912D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443D4-BEF3-40C7-87F4-5874AA0EF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8520-A791-4C4A-BCB1-FC173F43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861-F363-4B2D-AF77-DB4A9C60530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1CAA-BCFE-49DF-BFA8-D115CEF6BBF6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3F8E-BD49-4665-A2A8-57F5983E254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DB80-3AAE-4D3A-8A78-158664D54EC0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3A91-AC59-4736-929D-CCBD3793CA5D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BD8-0CFE-447A-8EB8-E80D5628C332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31D8-8E63-4752-838D-21B9149436CB}" type="slidenum">
              <a:rPr b="0" lang="pl-P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Jedno zadanie – kilka rozwiązań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to inny przykład zadania i kilka sposobów jego rozwiąz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danie 2. Tomek ma 14 lat, a jego mama 38. Oblicz kiedy mama była od Tomka pięć razy starsza. 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amiętaj! Jak mamie przybędzie lat, to Tomkowi również i to tyle samo co mamie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. Analiza zadani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arto zadanie to podzielić na dwie części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omek ma 14 lat, a jego mama 38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403280" y="3284640"/>
          <a:ext cx="4572000" cy="11127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78" name="Łącznik prostoliniowy 5"/>
          <p:cNvSpPr/>
          <p:nvPr/>
        </p:nvSpPr>
        <p:spPr>
          <a:xfrm>
            <a:off x="1403280" y="3284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9" name="Łącznik prostoliniowy 7"/>
          <p:cNvSpPr/>
          <p:nvPr/>
        </p:nvSpPr>
        <p:spPr>
          <a:xfrm flipV="1">
            <a:off x="1403280" y="328428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pole tekstowe 9"/>
          <p:cNvSpPr/>
          <p:nvPr/>
        </p:nvSpPr>
        <p:spPr>
          <a:xfrm>
            <a:off x="1763640" y="47912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1" name="pole tekstowe 10"/>
          <p:cNvSpPr/>
          <p:nvPr/>
        </p:nvSpPr>
        <p:spPr>
          <a:xfrm>
            <a:off x="5796000" y="482292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pole tekstowe 11"/>
          <p:cNvSpPr/>
          <p:nvPr/>
        </p:nvSpPr>
        <p:spPr>
          <a:xfrm>
            <a:off x="1692360" y="553572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pole tekstowe 12"/>
          <p:cNvSpPr/>
          <p:nvPr/>
        </p:nvSpPr>
        <p:spPr>
          <a:xfrm>
            <a:off x="3851280" y="4791240"/>
            <a:ext cx="129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pole tekstowe 14"/>
          <p:cNvSpPr/>
          <p:nvPr/>
        </p:nvSpPr>
        <p:spPr>
          <a:xfrm>
            <a:off x="3564000" y="5715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x lat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6" name="pole tekstowe 15"/>
          <p:cNvSpPr/>
          <p:nvPr/>
        </p:nvSpPr>
        <p:spPr>
          <a:xfrm>
            <a:off x="5580000" y="553572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7" name="pole tekstowe 16"/>
          <p:cNvSpPr/>
          <p:nvPr/>
        </p:nvSpPr>
        <p:spPr>
          <a:xfrm>
            <a:off x="7164360" y="53452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+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pole tekstowe 17"/>
          <p:cNvSpPr/>
          <p:nvPr/>
        </p:nvSpPr>
        <p:spPr>
          <a:xfrm>
            <a:off x="7380360" y="47912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-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pole tekstowe 18"/>
          <p:cNvSpPr/>
          <p:nvPr/>
        </p:nvSpPr>
        <p:spPr>
          <a:xfrm>
            <a:off x="6438960" y="363708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14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0" name="pole tekstowe 19"/>
          <p:cNvSpPr/>
          <p:nvPr/>
        </p:nvSpPr>
        <p:spPr>
          <a:xfrm>
            <a:off x="7304040" y="41925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5(38-x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68360" y="1916280"/>
            <a:ext cx="842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= 5(38 – x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x = 5(14+x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x = 38 – x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=5(14 – x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Mam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temu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84360" y="1557000"/>
            <a:ext cx="740880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332000" y="2655720"/>
          <a:ext cx="4572000" cy="11131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m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96" name="Łącznik prostoliniowy 7"/>
          <p:cNvSpPr/>
          <p:nvPr/>
        </p:nvSpPr>
        <p:spPr>
          <a:xfrm>
            <a:off x="1346040" y="2690640"/>
            <a:ext cx="151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Łącznik prostoliniowy 15"/>
          <p:cNvSpPr/>
          <p:nvPr/>
        </p:nvSpPr>
        <p:spPr>
          <a:xfrm flipH="1">
            <a:off x="1318680" y="2690640"/>
            <a:ext cx="1511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pole tekstowe 9"/>
          <p:cNvSpPr/>
          <p:nvPr/>
        </p:nvSpPr>
        <p:spPr>
          <a:xfrm>
            <a:off x="1427040" y="407664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+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9" name="pole tekstowe 9"/>
          <p:cNvSpPr/>
          <p:nvPr/>
        </p:nvSpPr>
        <p:spPr>
          <a:xfrm>
            <a:off x="142704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 – 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0" name="pole tekstowe 9"/>
          <p:cNvSpPr/>
          <p:nvPr/>
        </p:nvSpPr>
        <p:spPr>
          <a:xfrm>
            <a:off x="142704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+y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1" name="pole tekstowe 9"/>
          <p:cNvSpPr/>
          <p:nvPr/>
        </p:nvSpPr>
        <p:spPr>
          <a:xfrm>
            <a:off x="3276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– y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2" name="pole tekstowe 9"/>
          <p:cNvSpPr/>
          <p:nvPr/>
        </p:nvSpPr>
        <p:spPr>
          <a:xfrm>
            <a:off x="3429000" y="486900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obecnie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3" name="pole tekstowe 9"/>
          <p:cNvSpPr/>
          <p:nvPr/>
        </p:nvSpPr>
        <p:spPr>
          <a:xfrm>
            <a:off x="5437080" y="4869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8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4" name="pole tekstowe 9"/>
          <p:cNvSpPr/>
          <p:nvPr/>
        </p:nvSpPr>
        <p:spPr>
          <a:xfrm>
            <a:off x="35812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5" name="pole tekstowe 9"/>
          <p:cNvSpPr/>
          <p:nvPr/>
        </p:nvSpPr>
        <p:spPr>
          <a:xfrm>
            <a:off x="529272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y lat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6" name="pole tekstowe 9"/>
          <p:cNvSpPr/>
          <p:nvPr/>
        </p:nvSpPr>
        <p:spPr>
          <a:xfrm>
            <a:off x="5437080" y="5661000"/>
            <a:ext cx="1295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y lat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7" name="pole tekstowe 9"/>
          <p:cNvSpPr/>
          <p:nvPr/>
        </p:nvSpPr>
        <p:spPr>
          <a:xfrm>
            <a:off x="7164360" y="407664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14 + y)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8" name="pole tekstowe 9"/>
          <p:cNvSpPr/>
          <p:nvPr/>
        </p:nvSpPr>
        <p:spPr>
          <a:xfrm>
            <a:off x="7164360" y="4890960"/>
            <a:ext cx="1295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2(38 + y) 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4920" y="1844280"/>
            <a:ext cx="8497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y =2(14 – 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y = 2(38 – y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+y = 38 –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= 2(14+y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dp. Za </a:t>
            </a:r>
            <a:r>
              <a:rPr b="0" lang="pl-PL" sz="24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lat mama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1557000"/>
            <a:ext cx="7408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x – wiek mamy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x – wiek Tomka x lat temu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627280" y="4292640"/>
          <a:ext cx="3097080" cy="1828800"/>
        </p:xfrm>
        <a:graphic>
          <a:graphicData uri="http://schemas.openxmlformats.org/drawingml/2006/table">
            <a:tbl>
              <a:tblPr/>
              <a:tblGrid>
                <a:gridCol w="1549440"/>
                <a:gridCol w="154764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rowSpan="5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– 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83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x lat temu mama była 5 razy starsza od Tomka. Zatem pięciokrotność wieku Tomka x lat temu daje wiek matki x lat temu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5(14 – x) = 38 – 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871560" y="1989000"/>
            <a:ext cx="74088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– obecny wiek mamy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– obecny wiek Tom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8 + y – wiek mamy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14 + y – wiek Tomka za y l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692360" y="5013360"/>
          <a:ext cx="3024000" cy="741240"/>
        </p:xfrm>
        <a:graphic>
          <a:graphicData uri="http://schemas.openxmlformats.org/drawingml/2006/table">
            <a:tbl>
              <a:tblPr/>
              <a:tblGrid>
                <a:gridCol w="1511280"/>
                <a:gridCol w="151272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14 +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38 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za y lat mama będzie 2 razy starsza od Tomka. Zatem dwukrotność wieku Tomka za y lat daje wiek matki za y lat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tąd: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(14 + y) = 38 + y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1700280"/>
            <a:ext cx="74088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treści zadania (po dokładnym zapoznaniu się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 treścią zadania ustalamy niewiadomą, wykorzystując ją 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używając danych układamy wyrażenia arytmetyczne</a:t>
            </a:r>
            <a:br>
              <a:rPr sz="2200"/>
            </a:b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 algebraiczne, które ilustrują treść zadania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Ułożenie równania (szukamy dwóch wyrażeń, z których co najmniej jedno zawiera niewiadomą, przedstawiających tę samą wielkość i stawiamy między nimi znak równości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 równ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anie odpowiedzi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25160" indent="-425160"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Plan rozwiązania zadania z treścią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871560" y="1413000"/>
            <a:ext cx="7408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blicz kiedy mama była od Tomka pięć razy starsza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276720" y="1989000"/>
          <a:ext cx="5256000" cy="4389480"/>
        </p:xfrm>
        <a:graphic>
          <a:graphicData uri="http://schemas.openxmlformats.org/drawingml/2006/table">
            <a:tbl>
              <a:tblPr/>
              <a:tblGrid>
                <a:gridCol w="1751040"/>
                <a:gridCol w="1752480"/>
                <a:gridCol w="175248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ok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 lata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 laty t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 6 i 30 spełniają warunki zadania, bo 6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5= 30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ndara"/>
              </a:rPr>
              <a:t>8 lat temu 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ama była 5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1b6fd"/>
              </a:buClr>
              <a:buFont typeface="Candar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 ile lat będzie od niego dwa razy starsza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ypełnijmy tabelkę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3780000" y="2060640"/>
          <a:ext cx="5111640" cy="4449600"/>
        </p:xfrm>
        <a:graphic>
          <a:graphicData uri="http://schemas.openxmlformats.org/drawingml/2006/table">
            <a:tbl>
              <a:tblPr/>
              <a:tblGrid>
                <a:gridCol w="1704960"/>
                <a:gridCol w="1703160"/>
                <a:gridCol w="1703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Tom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Wiek ma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bec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2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3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4 l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5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6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7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8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9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a 10 l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Liczby z ostatniego wiersza spełniają warunki zadania, gdyż 24 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∙ 2 = 48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Zatem </a:t>
            </a:r>
            <a:r>
              <a:rPr b="0" lang="pl-PL" sz="2400" spc="-1" strike="noStrike">
                <a:solidFill>
                  <a:srgbClr val="c00000"/>
                </a:solidFill>
                <a:latin typeface="Cambria Math"/>
                <a:ea typeface="Cambria Math"/>
              </a:rPr>
              <a:t>za 10 lat mama</a:t>
            </a:r>
            <a:r>
              <a:rPr b="0" lang="pl-PL" sz="2400" spc="-1" strike="noStrike">
                <a:solidFill>
                  <a:srgbClr val="073e87"/>
                </a:solidFill>
                <a:latin typeface="Cambria Math"/>
                <a:ea typeface="Cambria Math"/>
              </a:rPr>
              <a:t> będzie 2 razy starsza od Tomk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W prezentacji zostały wykorzystane zadania</a:t>
            </a:r>
            <a:br>
              <a:rPr sz="2400"/>
            </a:b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z podręcznika GWO MATEMATYKA Z PLUSEM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pracowała: Anna Jąkalsk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Zadnia dotyczące wieku sprawiają nie mały kłopot gimnazjalistom. Oto kilka sposobów, które ułatwią zrozumienie </a:t>
            </a:r>
            <a:br>
              <a:rPr sz="3200"/>
            </a:br>
            <a:r>
              <a:rPr b="0" lang="pl-PL" sz="3200" spc="-1" strike="noStrike">
                <a:solidFill>
                  <a:srgbClr val="073e87"/>
                </a:solidFill>
                <a:latin typeface="Candara"/>
              </a:rPr>
              <a:t>i rozwiązanie tego typu zadań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Zadania dotyczące „wieku”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danie 1. Za 3 lata Grześ będzie 3 razy starszy niż 3 lata temu. Ile lat ma Grześ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zani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Analiz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Pytania pomocnicze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sób występuje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Ile okresów czasu pojawia się w zadaniu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Co oznaczymy przez niewiadomą?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Uzupełnij tabelkę wykorzystując podane wyrażen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163520" y="3284640"/>
          <a:ext cx="6096240" cy="10080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Grze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  <p:sp>
        <p:nvSpPr>
          <p:cNvPr id="352" name="pole tekstowe 5"/>
          <p:cNvSpPr/>
          <p:nvPr/>
        </p:nvSpPr>
        <p:spPr>
          <a:xfrm>
            <a:off x="6875640" y="52992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a 3 lata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pole tekstowe 7"/>
          <p:cNvSpPr/>
          <p:nvPr/>
        </p:nvSpPr>
        <p:spPr>
          <a:xfrm>
            <a:off x="2987640" y="512604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- 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pole tekstowe 8"/>
          <p:cNvSpPr/>
          <p:nvPr/>
        </p:nvSpPr>
        <p:spPr>
          <a:xfrm>
            <a:off x="4859280" y="472428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+3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pole tekstowe 9"/>
          <p:cNvSpPr/>
          <p:nvPr/>
        </p:nvSpPr>
        <p:spPr>
          <a:xfrm>
            <a:off x="2843280" y="457056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+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pole tekstowe 10"/>
          <p:cNvSpPr/>
          <p:nvPr/>
        </p:nvSpPr>
        <p:spPr>
          <a:xfrm>
            <a:off x="4836960" y="5299200"/>
            <a:ext cx="13687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 lata temu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pole tekstowe 11"/>
          <p:cNvSpPr/>
          <p:nvPr/>
        </p:nvSpPr>
        <p:spPr>
          <a:xfrm>
            <a:off x="6875640" y="4788000"/>
            <a:ext cx="1368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(x-3)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pole tekstowe 12"/>
          <p:cNvSpPr/>
          <p:nvPr/>
        </p:nvSpPr>
        <p:spPr>
          <a:xfrm>
            <a:off x="1268280" y="509436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3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pole tekstowe 13"/>
          <p:cNvSpPr/>
          <p:nvPr/>
        </p:nvSpPr>
        <p:spPr>
          <a:xfrm>
            <a:off x="1268280" y="4573440"/>
            <a:ext cx="1368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Łącznik prostoliniowy 2"/>
          <p:cNvSpPr/>
          <p:nvPr/>
        </p:nvSpPr>
        <p:spPr>
          <a:xfrm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Łącznik prostoliniowy 6"/>
          <p:cNvSpPr/>
          <p:nvPr/>
        </p:nvSpPr>
        <p:spPr>
          <a:xfrm flipV="1">
            <a:off x="1219320" y="3284640"/>
            <a:ext cx="14176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Wskaż równanie, które doprowadzi do rozwiązania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-3=3(x+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x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3x=x-3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Rozwiąż równanie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x+3=3(x-3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Sprawdzenie, czy otrzymane rozwiązanie spełnia warunki zadania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Zapisz odpowiedź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Odp. Grześ ma 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	</a:t>
            </a:r>
            <a:r>
              <a:rPr b="0" lang="pl-PL" sz="2200" spc="-1" strike="noStrike" u="sng">
                <a:solidFill>
                  <a:srgbClr val="073e87"/>
                </a:solidFill>
                <a:uFillTx/>
                <a:latin typeface="Candara"/>
              </a:rPr>
              <a:t>      </a:t>
            </a:r>
            <a:r>
              <a:rPr b="0" lang="pl-PL" sz="2200" spc="-1" strike="noStrike">
                <a:solidFill>
                  <a:srgbClr val="073e87"/>
                </a:solidFill>
                <a:latin typeface="Candara"/>
              </a:rPr>
              <a:t> lat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. Metoda tabelk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Określenie niewiadomej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x – obecny wiek Grzesi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Metoda ta, podobnie jak poprzednia, prowadzi do zapisu treści zadania w postaci równ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 treści zadania wiemy, że trzykrotność wieku Grzesia trzy lata temu daje jego wiek za trzy lat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Zatem: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 3(x – 3) = x +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. Metoda rysunku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403280" y="2708280"/>
          <a:ext cx="3097440" cy="1112760"/>
        </p:xfrm>
        <a:graphic>
          <a:graphicData uri="http://schemas.openxmlformats.org/drawingml/2006/table">
            <a:tbl>
              <a:tblPr/>
              <a:tblGrid>
                <a:gridCol w="1548000"/>
                <a:gridCol w="1549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 +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x –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Spróbujmy rozwiązać to samo zadanie nie zapisując równania. Wykorzystajmy metodę prób i błędów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Dokonajmy analizy zadania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Pierwsze zdanie z zadania - za 3 lata Grześ będzie 3 razy starszy niż 3 lata temu – informuje nas, że należy porównać wiek Grzesia sprzed 3 lat i ten, który osiągnie za 3 lata. 3 lata temu Grześ mógł mieć 1 rok lub 2 lata lub 3 lata itd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871560" y="2060280"/>
            <a:ext cx="7408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2. Wypełnijmy tabelkę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73e87"/>
                </a:solidFill>
                <a:latin typeface="Candara"/>
              </a:rPr>
              <a:t>3. Jak łatwo zauważyć liczby z trzeciego wiersz spełniają warunki zadania. Zatem Grześ ma 6 lat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ndara"/>
              </a:rPr>
              <a:t>III. Metoda prób i błędów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12680" y="2565360"/>
            <a:ext cx="7419960" cy="23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16:36:18Z</dcterms:created>
  <dc:creator>Ania</dc:creator>
  <dc:description/>
  <dc:language>en-US</dc:language>
  <cp:lastModifiedBy>Ania</cp:lastModifiedBy>
  <dcterms:modified xsi:type="dcterms:W3CDTF">2013-05-21T20:10:56Z</dcterms:modified>
  <cp:revision>142</cp:revision>
  <dc:subject/>
  <dc:title>Rozwiązywanie zadań tekstowych stosując równania</dc:title>
</cp:coreProperties>
</file>